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088-681C-4757-B919-CC6E04B1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52D-41D8-4597-8B95-1D903F86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3A9-36F5-4AEF-A8AF-78656BAA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D2D-14F8-412F-93BA-24B6A95C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F96-431D-463B-A083-34BC7F76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F5A-ADD0-4C8A-8272-FFFCC910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80A-2471-47D3-A3BB-F06731E8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825-71A7-4AC7-BFC8-1A305CD4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C5D-9537-4B09-B866-B0B0940A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CEE-20C9-40A4-A407-6F641494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BA0-CC27-45A6-A2C6-57AEB054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A0D-B52D-4396-85BE-23342933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5411-F512-46EE-824C-48EC9450F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between Prokaryotes and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1676520"/>
          <a:ext cx="6994440" cy="4572000"/>
        </p:xfrm>
        <a:graphic>
          <a:graphicData uri="http://schemas.openxmlformats.org/drawingml/2006/table">
            <a:tbl>
              <a:tblPr/>
              <a:tblGrid>
                <a:gridCol w="3497400"/>
                <a:gridCol w="3497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NA is small and circ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NA is large and lin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ll regions are coding (except promoters and operator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nsists of coding regions and non-coding reg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ome genes are arranged in ope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o ope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fferences in Transcrip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76520"/>
          <a:ext cx="8077320" cy="3352680"/>
        </p:xfrm>
        <a:graphic>
          <a:graphicData uri="http://schemas.openxmlformats.org/drawingml/2006/table">
            <a:tbl>
              <a:tblPr/>
              <a:tblGrid>
                <a:gridCol w="4076640"/>
                <a:gridCol w="400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upled transcription-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ccurs in the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o excision of in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ntrons excised by spliceosomes and exons joined tog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780120" y="4118040"/>
            <a:ext cx="322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fferences in Transl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752480"/>
          <a:ext cx="8077320" cy="3473280"/>
        </p:xfrm>
        <a:graphic>
          <a:graphicData uri="http://schemas.openxmlformats.org/drawingml/2006/table">
            <a:tbl>
              <a:tblPr/>
              <a:tblGrid>
                <a:gridCol w="4076640"/>
                <a:gridCol w="400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ibosome recognizes Shine-Dalgarno sequence (purine-ric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ibosome recognizes 5' cap on m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maller riboso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arger riboso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irst tRNA carries formyl-methion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irst tRNA carries methion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780120" y="4118040"/>
            <a:ext cx="322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mun.ca/biology/scarr/Gr10-32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53920" y="1143000"/>
            <a:ext cx="7434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cells may have evolved from an endosymbiotic relationship between prokaryotic anc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or the endosymbiotic theory is found in chloroplasts as well as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in 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al DNA is circular and not membrane-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al DNA sequence similar to bacterial DNA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a divide by fission (similar to bac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1:23:39Z</dcterms:created>
  <dc:creator>rubina khan</dc:creator>
  <dc:description/>
  <dc:language>en-US</dc:language>
  <cp:lastModifiedBy>rubina khan</cp:lastModifiedBy>
  <dcterms:modified xsi:type="dcterms:W3CDTF">2011-11-28T18:21:01Z</dcterms:modified>
  <cp:revision>29</cp:revision>
  <dc:subject/>
  <dc:title>Protein Synthesis</dc:title>
</cp:coreProperties>
</file>